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566-1B6E-4BDA-9E33-52598096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7F1-9687-4A36-8426-6E5BF4D8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53A-1731-4591-A240-1CF59CB4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D02-E2AE-44D4-8157-8D5EAE3A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D23-8521-440E-85D9-4F89E6BE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AFC-8F8C-4430-9177-B6E29C29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976-3EC1-4E75-89A8-9CAFE6D4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A43-DE8D-47EE-ADC5-BC1001F3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A11-CAB3-48A6-BE74-44952E1E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7E3-2C3E-4EAA-8348-283C521C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BC8-48AB-41AE-8B47-5A3A2C6A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6D9-715D-401F-B912-8D2E39CF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C269-D406-4F0E-B4C4-4DEBF94A4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95680" y="3962520"/>
            <a:ext cx="3810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 Cas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572000" cy="2849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4400" y="4038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By Sean Klopoto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343400"/>
            <a:ext cx="9144000" cy="1465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casa 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 localizada en Ashland, MA. Está en la calle Hickory. La casa cuesta $500,000. Mi casa tiene un cuarto grande y cuatro cuartos pequeño. Tiene una cocina estupenda con una estufa, una lanevera, y u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onda. Tiene un 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o en 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r piso  y dos 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os en 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ndo piso. Tiene una sala bonita, un comedor viejo, y un garaje estupend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9:30Z</dcterms:created>
  <dc:creator>sklopotoski</dc:creator>
  <dc:description/>
  <dc:language>en-US</dc:language>
  <cp:lastModifiedBy>sklopotoski</cp:lastModifiedBy>
  <dcterms:modified xsi:type="dcterms:W3CDTF">2012-05-22T17:20:39Z</dcterms:modified>
  <cp:revision>6</cp:revision>
  <dc:subject/>
  <dc:title>Slide 1</dc:title>
</cp:coreProperties>
</file>